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02D-5208-4D05-8797-817E30ED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B7F-E330-4610-9787-F706AF17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102-25E5-4F77-B10A-2724301E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822-3DE9-4DAA-8392-56F22581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834-F38A-4028-B7BD-85032003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EC7-F5C3-4386-BF9C-2E8DCAF1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86D-6219-4544-AB18-76B58C26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42D-5362-4CBF-B709-FE2C08B8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03E-80CC-4FBA-AA19-E8FA5E5C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1F2-6568-4A45-85F1-F9A13EC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870-6067-4BFB-82E6-38D5B143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38D-C404-4AB1-BE5C-812BFDA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8E48-5D81-4649-9757-548780B57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route21/index.php?option=com_content&amp;view=article&amp;id=40&amp;Itemid=28" TargetMode="External"/><Relationship Id="rId2" Type="http://schemas.openxmlformats.org/officeDocument/2006/relationships/hyperlink" Target="http://www.21stcenturyskills.org/route21/index.php?option=com_content&amp;view=article&amp;id=40&amp;Itemid=28" TargetMode="External"/><Relationship Id="rId3" Type="http://schemas.openxmlformats.org/officeDocument/2006/relationships/hyperlink" Target="http://www.21stcenturyskills.org/route21/index.php?option=com_content&amp;view=article&amp;id=40&amp;Itemid=28" TargetMode="External"/><Relationship Id="rId4" Type="http://schemas.openxmlformats.org/officeDocument/2006/relationships/hyperlink" Target="http://www.21stcenturyskills.org/route21/index.php?option=com_content&amp;view=article&amp;id=40&amp;Itemid=28" TargetMode="External"/><Relationship Id="rId5" Type="http://schemas.openxmlformats.org/officeDocument/2006/relationships/hyperlink" Target="http://www.21stcenturyskills.org/route21/index.php?option=com_content&amp;view=article&amp;id=40&amp;Itemid=28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ly Child Academ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33791"/>
          <a:stretch/>
        </p:blipFill>
        <p:spPr>
          <a:xfrm>
            <a:off x="380880" y="0"/>
            <a:ext cx="7620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e faculty/administration to importance of Web 2.0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nstrate integration of web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 professional develop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ing the s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pple effect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, Blogs, Glogs, Twitter, Googl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ve 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ulty 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Want to 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ulty immersion into Web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er semina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ideas for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21stcenturyskills.org/route21/index.php?option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m_content&amp;view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ticle&amp;id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40&amp;Itemid=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Based Lear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ve involv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 Lesson Plans through 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er Eval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 Eval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ve Eval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3:25:29Z</dcterms:created>
  <dc:creator>mcameron</dc:creator>
  <dc:description/>
  <dc:language>en-US</dc:language>
  <cp:lastModifiedBy>mcameron</cp:lastModifiedBy>
  <dcterms:modified xsi:type="dcterms:W3CDTF">2009-03-05T17:03:56Z</dcterms:modified>
  <cp:revision>3</cp:revision>
  <dc:subject/>
  <dc:title>Holy Child Academy</dc:title>
</cp:coreProperties>
</file>